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2A75-297C-49A7-A42E-4C3C611B8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1% of gynecologists get the right answer (B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e popularized by Mark Tw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's wrong with these pictu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areful reading of the whole article (buried several pages into the paper) reveals a different stor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The ranking graph covers an 11 year period, the tuition graph 35 years, yet they are shown simultaneously (the same apparent width) on the same horizontal "scale"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The vertical scale for tuition and ranking could not possibly have common units, but the ranking graph is placed under the tuition graph creating the impression that cost exceeds qual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The differing time units are cleverly disguised by printing them rotated 90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And here is the masterstroke: the sharp "drop" in the ranking graph over the past few years actually represents the fact that Cornell's rank has IMPROVED from 15th TO 6th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811-7F6B-422A-A6C5-CC2D8420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532-6B1B-4F7E-85BD-F959C3CF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0DD-B854-4AB6-A643-27D05816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545-B06F-473E-A3E3-28DAC9D1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A4F0-CD0E-4264-8FB9-AAD446E6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C50C-73EF-4D0F-93B0-6ADCCB87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402C-9EE5-45A1-A3A3-24C2FB69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C3F3-ACD9-48B4-A65F-D5784C67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3DFC-9462-43B3-94F1-CD750860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0803-777C-4AFC-8F5C-A413EA30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CDFC-F126-48BD-9C82-FB8129C1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877-4BD8-4511-813A-BD8036D0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689E-1F3B-4ACB-856B-9224E2D6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B10D-F91F-4647-8A2D-A867E9DC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09D2-EA04-434C-84C2-038FE696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D7A1-F458-4045-89CD-ABF77BF2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B969-046B-4E9A-9704-2A3F3C31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36212-E88B-4BA0-A431-6B888462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E2B4-464E-454F-9EC6-ABD03DCA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ADCD-447E-4B90-9AA3-7B403422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1408-E43F-4DFB-805E-AF5B25F3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3319E-19DE-4148-B428-5369F61D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174-7549-4AD4-9A08-7B9E4039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ECC5-9E5B-40CB-AD9B-F0CEFB8C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7637-4571-4120-B818-EBC05D40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370D-64A4-46DA-9E11-EAC16290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AFA82-84BF-4294-8D5C-DB0111AE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01A5F-DF3A-4169-B02D-C2F7B72D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AC57-D13B-4F45-BED9-444862B8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CF58-9B25-4469-AAAA-FCABF829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F99-7D94-4A72-BC7D-42E22216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8C2-7D0A-4A66-AADA-0E566A96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D25-CB32-4D33-8FB8-8A0B5016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4E4-D24F-4791-91FF-1649625B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BE3-F2DE-4379-8E74-1C1F0A65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2D4-2CF4-4F1A-8FB8-7C71F45A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6FE6-E259-4AFC-9A9E-A6B23B39C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B821-BB5F-4B2D-9708-17E6E6BD83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16EA-5A73-4159-844C-2B5D73DBBD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ienceblips.dailyradar.com/video/daily_show_explains_the_lhc_video/" TargetMode="External"/><Relationship Id="rId2" Type="http://schemas.openxmlformats.org/officeDocument/2006/relationships/hyperlink" Target="http://scienceblips.dailyradar.com/video/daily_show_explains_the_lhc_video/" TargetMode="External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lluminations.nctm.org/ActivityDetail.aspx?ID=16" TargetMode="External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quotationspage.com/quote/30392.html" TargetMode="External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992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Powers of Ten –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 Gahh!</a:t>
            </a: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982880" y="4038480"/>
            <a:ext cx="52099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vironmental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tatistics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rrelation vs. Causation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spcAft>
                <a:spcPts val="876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lief: Fluoridated water causes cancer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tions that add fluoride to their water have a higher cancer rate than those that don't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spcAft>
                <a:spcPts val="876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lief: Marriage is bad for your health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 Alabama, counties with higher divorce rates generally have lower death rates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25760" y="762120"/>
            <a:ext cx="4575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robability Misconception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52480" y="26668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netic probabil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ealth probabil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ammography Statistic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probability that a woman has breast cancer is 1%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f a woman has breast cancer, the probability that she tests positive is 90%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f a woman does not have breast cancer, the probability that she nevertheless tests positive is 9%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87692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Out of 10 women with a positive mammogram, ~9 have breast can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 Out of 10 women with a positive mammogram, ~1 has breast can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The probability that she has breast cancer is about 1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9240" y="3809880"/>
            <a:ext cx="753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oman has a positive mammogram. What is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of actually having breast canc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54860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s more impressive than cutting the ri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2.8% to 1.5%, doesn’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181480" cy="3670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262080"/>
            <a:ext cx="919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There are three kinds of li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es, damned lies, and statistics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162560" y="4419720"/>
            <a:ext cx="1143000" cy="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nd then there’s the </a:t>
            </a:r>
            <a:r>
              <a:rPr b="1" lang="en-US" sz="5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adron</a:t>
            </a:r>
            <a:r>
              <a:rPr b="1" lang="en-US" sz="5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 Collider…</a:t>
            </a:r>
            <a:br>
              <a:rPr sz="5400"/>
            </a:b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Graphing Difficulties</a:t>
            </a: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raph Interpretation Problems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Graph vs. pic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lope vs. heigh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connect from data tabl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 type of graph should I use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ne Graph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ot related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r Graph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mphasize individual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ie Chart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are parts, or percents, of a who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3500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’s wrong with this graph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adequate (and inaccurate) tit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es poorly labeled – unit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 gri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appropriate sca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3902" t="5551" r="3902" b="5551"/>
          <a:stretch/>
        </p:blipFill>
        <p:spPr>
          <a:xfrm>
            <a:off x="3581280" y="990720"/>
            <a:ext cx="442620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’s wrong with this graph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 tit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es poorly labeled – unit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t well-gridded for interpret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uld this be a straight line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46386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raphing Misconception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erpret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aph vs. pictur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re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oice for x and y ax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xis labels/uni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cal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cales not linear/unifor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ype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Types of Graph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ne Graph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ot related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r Graph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mphasize individual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ie Chart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are parts, or percents, of a whole 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stogram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ow frequency distributions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rocedure Rubric</a:t>
            </a:r>
            <a:endParaRPr b="1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 this an experiment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lid hypothesis - falsifiable!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dentification of variable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D (very important)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4881600" cy="4157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561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181480"/>
            <a:ext cx="7162560" cy="15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ld you personally do this experiment successfully using this procedu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10552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h Teacher Estimates of Student Interest and Comprehension of Prob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02928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st Graph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327560" cy="5410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73680" y="152280"/>
            <a:ext cx="4083120" cy="6705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09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st Pie Chart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5624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The Case of the Missing Workers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asur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aphi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Math In The Science Classroom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we need to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ul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we measur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we analyze the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0120" y="838080"/>
            <a:ext cx="1342800" cy="5705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2449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 have not failed. I've just found 10,000 ways that won't work.</a:t>
            </a:r>
            <a:br>
              <a:rPr sz="4800"/>
            </a:br>
            <a:br>
              <a:rPr sz="4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  -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Thomas A. Edison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uidelines for Preventing Math Error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ep track of all informa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paper trail)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 visual keys, such as arrow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ep track of unit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ate answer clearly, WITH UNIT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ck that your answer makes sens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You have a bowl with 2 oranges and 3 apples. If you reach into the bowl without looking, what is the probability that you will grab an orange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4190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r is it 2/3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Errors vs. Misconceptions </a:t>
            </a:r>
            <a:br>
              <a:rPr sz="7200"/>
            </a:b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xamples of Math Misconception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/3 vs. 1/8 - which is bigger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2126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lief - Larger denominator is bigger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9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36 vs. 4.2 - which is bigger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2126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lief - Numbers with more digits are bigger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9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 vs. mg - which is bigger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1488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lief - More letters mean bigger units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xamples of Math Misconception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3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umbers with more digits are bigge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5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36 vs. 4.2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re letters mean bigger unit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5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 vs. m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3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ultiplication by 10 adds a zer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976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36 x 10 = 2.360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ore Math Misconception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19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ltiplication creates bigger number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spcAft>
                <a:spcPts val="19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ltiplication by 10 adds a zero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spcAft>
                <a:spcPts val="1650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36 x 10 = 2.360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spcAft>
                <a:spcPts val="19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ortion of blue w/ 2 blue and 3 red item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spcAft>
                <a:spcPts val="1650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r 2/5?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9:13:08Z</dcterms:created>
  <dc:creator>Cynthia J. Moore</dc:creator>
  <dc:description/>
  <dc:language>en-US</dc:language>
  <cp:lastModifiedBy>Cynthia Moore</cp:lastModifiedBy>
  <dcterms:modified xsi:type="dcterms:W3CDTF">2011-02-27T21:33:32Z</dcterms:modified>
  <cp:revision>49</cp:revision>
  <dc:subject/>
  <dc:title>Slide 1</dc:title>
</cp:coreProperties>
</file>